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1.png" ContentType="image/png"/>
  <Override PartName="/ppt/media/image6.wmf" ContentType="image/x-wmf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F72A-5495-411A-B23F-EAFA2387BC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0C1E-B631-4424-8413-A51FCDEC54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3837-3094-43F6-B3F6-0C8A3B5C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07B7-0B03-4BFE-BA84-3EC26840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BFF0-9255-40FE-B391-E79BEDC0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FF60-AFE5-4549-85C2-F53FF017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4983-72CE-4CAE-99FF-94467F781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EDB1-F669-4E40-A653-D2859B9B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CFD6-F095-4905-98FA-892618C0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C03D-6334-4ECA-BE55-0A88B9B3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36C8-E067-4457-839A-EE52311A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8205-D005-4B8D-8DAF-D924E621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7249-DF5B-4619-BC01-3A82E1E2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1F9F-6ED5-4004-8E47-36B4BD26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E740-E42D-4B80-AA6F-4B37F6D6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5D22-3F06-4D28-9C6D-06A8F72B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F395-CBFC-4A00-B306-BDBC6ADD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CA01-9462-4ADB-A27B-01F1CA64B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80D7-203E-4BA1-A6F4-64957E53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3B9C4-A3DC-42FB-9599-014C566B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8181C-3B74-4AA0-9BCD-DFB2F1B9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EAEC0-CC61-43A8-922A-33DC87C0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8DF51-2ED5-403B-ADB4-1AADE8AC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9D21F-83FF-4F7B-B55E-12DFC8C2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379E-D7B1-4846-94C8-F343ABAC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0DB2B-09E8-4C5B-AEB9-B4F7A57B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1E82E-0001-43E9-B718-EAE2CE72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0801A-3547-4630-91A5-510AFB6D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C9033-D865-453D-806E-E0ADEC75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64D59-5EDC-43C3-9F36-656AE93F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F8C41-F763-40CB-8A75-0983D5205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AB209-BA8E-4E69-8120-94CE9766D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9DBFA-3F28-499A-866A-FF4DAF305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E537D-3F12-4B58-8315-05E31F17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16226-0640-4C21-B82F-332BB146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6FE9-3D58-46FE-849A-1A6E812C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5E163-AC9F-4EFF-AC23-ADCE90D0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837D9-400C-41EC-93C0-C9D9C65B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DDD91-DBA4-44BF-A1D3-567EEA48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C5C20-1D94-4E90-92ED-9C290754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3479E-53DA-41FF-A97A-1C46155A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45F8C-41F1-4663-9B85-4BF692EF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288EC-6D5B-4E8E-A185-C83AFE55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0418A-FF54-497D-B017-B091D8D52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573EC-CDE7-44BA-824A-F81BBA43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ECDEE-C742-479C-8805-8F221925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AE7B-A658-4849-9532-62ED71F5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EAD3E-29F7-4010-B76A-F8DFF433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F1220-0E1F-4C42-9C30-4DAA857D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0484F-E3C9-4FF5-A483-D9F3E77E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C9213-D9BE-4CBD-A658-BA843EBC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50520-5219-4492-8CF7-BFFF2F00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D2051-0968-4E3E-AA52-11734159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1F5B6-E83F-40F5-BA25-80FD6572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F43FC-9D09-4C56-989E-195C7C25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D5DA9-284B-46AE-8F91-33EDB62E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5B349-1337-4794-A099-D5CBFCCE9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EBFF-ED3D-4606-8996-FCED9B50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E1C02-35F2-4897-98F5-2DC9D7858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36E3E-9823-4915-BBCE-AD8A1C0A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CB3E2-5A3F-49BC-8F49-DB2078AA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4DA15-B45A-4B70-9B8B-B08A55A8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BB55A-E495-483E-93F2-FABD61E4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AB770-B472-4B0B-A1DD-5E5810F6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4B14A-A723-46E9-A4A9-9441F06D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25763-163B-4F87-B790-35670124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FA024-B5EE-45DF-ABED-84F5AB2D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094A3-FB7C-4411-BC1E-0AAD9E29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5419-55AC-48FD-85E8-2E0F22CB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BC2C6-793C-4F50-B96B-E7415887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BA38F-79F5-4C59-8F3B-87F64606D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8E0ED-17FF-4D9B-9DA4-977FCD8C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7618E-7079-4768-B20D-2DB90E636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92CA1-B7E3-41B5-9E7F-77F73375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892F0-C150-49F8-BEC8-B17E217E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A7B84-ABF8-4181-90AB-ABC8859C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031D1-BDC8-492F-9F08-E53E8A48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24C41-B35F-466E-84C9-2CEEAAC8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FF754-349A-4C4E-B16F-CB6349D9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00FD-02E2-42DE-8705-7FD9411C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6EE3E-EAFC-4528-8FA6-CF1953DB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8285A-B3D4-4473-B0B3-63764923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DA154-BB25-4C87-994A-ADC3EF40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4AFC6-30E7-458B-A7DF-3FDF12B5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2A120-B897-4425-9CFF-F2CD39727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A3B0-4949-4489-A1CE-7CD7E6EE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F823-A227-44C9-A091-AB43EB0D7F3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4AE2-275E-43C9-8CBA-C330E82F3B4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1CAB-CCD5-4AC9-942B-00567B9C550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0E90-1ADD-4B06-8EE0-8F14F68FFEF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AF1E-1E79-4EDB-9B2F-41E0073E90C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5E69-BD74-4A15-8A96-8AA1B829D26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A3B8-6049-4C53-8994-B26AEE2B7AD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Бюджет муниципального образования Вятскополянский муниципальный район Кировской области на 2018 год и плановый период 2019 и 2020 годов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371600" y="5082120"/>
            <a:ext cx="64404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труктура прогнозных поступлений неналоговых доходов на 2018 год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72" name="Объект 2"/>
          <p:cNvGraphicFramePr/>
          <p:nvPr/>
        </p:nvGraphicFramePr>
        <p:xfrm>
          <a:off x="250920" y="1628640"/>
          <a:ext cx="8569080" cy="473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3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628640"/>
                    <a:ext cx="8569080" cy="47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Динамика прогнозных поступлений неналоговых доходов за 2017 – 2020  годы</a:t>
            </a:r>
            <a:endParaRPr b="0" lang="en-US" sz="23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231840" y="1278000"/>
          <a:ext cx="8712000" cy="4665600"/>
        </p:xfrm>
        <a:graphic>
          <a:graphicData uri="http://schemas.openxmlformats.org/drawingml/2006/table">
            <a:tbl>
              <a:tblPr/>
              <a:tblGrid>
                <a:gridCol w="1511280"/>
                <a:gridCol w="1008000"/>
                <a:gridCol w="936720"/>
                <a:gridCol w="1008000"/>
                <a:gridCol w="1152360"/>
                <a:gridCol w="1079640"/>
                <a:gridCol w="1008000"/>
                <a:gridCol w="1008000"/>
              </a:tblGrid>
              <a:tr h="1166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алоговый дох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3d3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ый план на 2017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3d3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даемое исполнение за 2017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3d3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ные поступления на 2018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3d3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лонение прогнозных поступлений на 2018 год к первоначальному плану на 2017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3d3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лонение прогнозных поступлений на 2018 год к ожидаемому исполнению за 2019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3d3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ные поступления на 2019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3d3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ные поступления на 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3d3fe"/>
                    </a:solidFill>
                  </a:tcPr>
                </a:tc>
              </a:tr>
              <a:tr h="245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92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81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97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38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11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7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400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аренды земельных участк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4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99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аренды имуще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8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8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0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8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0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0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70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платных услуг (работ) и компенсации затрат государ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1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95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92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9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9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554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99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реализации имуще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8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9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9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продажи земельных участк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4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9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ы, санкции, возмещение ущерб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9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</a:tbl>
          </a:graphicData>
        </a:graphic>
      </p:graphicFrame>
      <p:sp>
        <p:nvSpPr>
          <p:cNvPr id="376" name="Прямоугольник 3"/>
          <p:cNvSpPr/>
          <p:nvPr/>
        </p:nvSpPr>
        <p:spPr>
          <a:xfrm>
            <a:off x="339840" y="5908680"/>
            <a:ext cx="8496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чет доходов от аренды земельных участков и аренды имущества, продажи земельных участков и реализации имущества, платы за негативное воздействие на окружающую среду, доходы от платных услуг произведены главными администраторами доходов в соответствии с утвержденными алгоритмами платежей.</a:t>
            </a:r>
            <a:endParaRPr b="0" lang="en-US" sz="11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огнозировании  поступлений по штрафам, санкциям, возмещению ущерба – доходам, не имеющим постоянного характера поступлений, учитывалась динамика и ожидаемая оценка поступлений</a:t>
            </a:r>
            <a:endParaRPr b="0" lang="en-US" sz="11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едоимка, учтенная в прогнозных поступлениях бюджета Вятскополянского муниципального района на 2018 год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Прямоугольник 2"/>
          <p:cNvSpPr/>
          <p:nvPr/>
        </p:nvSpPr>
        <p:spPr>
          <a:xfrm>
            <a:off x="324000" y="2349360"/>
            <a:ext cx="849600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бъем поступлений неисполненных обязательств плательщиков (недоимка) без учета задолженности невозможной к взысканию (лица, находящиеся в стадии банкротства, ликвидации, умершие, отсутствующие) предусмотрен, исходя из данных по состоянию на 01.07.2017 года, в сумм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1,3 тыс. рублей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том числе: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 налогу на доходы физических лиц 33,2 тыс. рублей (задолженность, числящаяся за физическими лицами);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 налогам, взимаемым в связи с применением упрощенной системы налогообложения 671,6 тыс. рублей (ООО «Каменный карьер», ООО «Вектор», ИП Семенов и задолженность ИП);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 единому налогу на вмененный доход 6,6 тыс. рублей;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 налогу на имущество организаций 39,9 тыс. рублей (ООО «Малиновка»)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неналоговым доходам недоимка в прогнозных поступлениях не учитывалась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30592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Безвозмездные поступления бюджета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0" name="Номер слайда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77AD-5BC2-4720-A6B8-F1F399E458AB}" type="slidenum">
              <a:rPr b="0" lang="ru-RU" sz="1000" spc="-1" strike="noStrike">
                <a:solidFill>
                  <a:srgbClr val="31b6fd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1" name="Прямоугольник 3"/>
          <p:cNvSpPr/>
          <p:nvPr/>
        </p:nvSpPr>
        <p:spPr>
          <a:xfrm>
            <a:off x="2627280" y="1022400"/>
            <a:ext cx="3219480" cy="1182600"/>
          </a:xfrm>
          <a:prstGeom prst="rect">
            <a:avLst/>
          </a:prstGeom>
          <a:gradFill rotWithShape="0">
            <a:gsLst>
              <a:gs pos="0">
                <a:srgbClr val="0293e0"/>
              </a:gs>
              <a:gs pos="100000">
                <a:srgbClr val="d6f0ff"/>
              </a:gs>
            </a:gsLst>
            <a:lin ang="16200000"/>
          </a:gra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возмездные поступления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2" name="Прямоугольник 4"/>
          <p:cNvSpPr/>
          <p:nvPr/>
        </p:nvSpPr>
        <p:spPr>
          <a:xfrm>
            <a:off x="1155600" y="2587680"/>
            <a:ext cx="2735280" cy="1152360"/>
          </a:xfrm>
          <a:prstGeom prst="rect">
            <a:avLst/>
          </a:prstGeom>
          <a:gradFill rotWithShape="0">
            <a:gsLst>
              <a:gs pos="0">
                <a:srgbClr val="0293e0"/>
              </a:gs>
              <a:gs pos="100000">
                <a:srgbClr val="d6f0ff"/>
              </a:gs>
            </a:gsLst>
            <a:lin ang="16200000"/>
          </a:gra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возмездные поступления от других бюджетов бюджетной системы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3" name="Прямоугольник 7"/>
          <p:cNvSpPr/>
          <p:nvPr/>
        </p:nvSpPr>
        <p:spPr>
          <a:xfrm>
            <a:off x="6215040" y="1714680"/>
            <a:ext cx="2521080" cy="1800000"/>
          </a:xfrm>
          <a:prstGeom prst="rect">
            <a:avLst/>
          </a:prstGeom>
          <a:gradFill rotWithShape="0">
            <a:gsLst>
              <a:gs pos="0">
                <a:srgbClr val="0293e0"/>
              </a:gs>
              <a:gs pos="100000">
                <a:srgbClr val="d6f0ff"/>
              </a:gs>
            </a:gsLst>
            <a:lin ang="16200000"/>
          </a:gra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е безвозмездные поступления (добровольные пожертвования, спонсорская помощь)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4" name="Прямоугольник 8"/>
          <p:cNvSpPr/>
          <p:nvPr/>
        </p:nvSpPr>
        <p:spPr>
          <a:xfrm>
            <a:off x="142920" y="3929040"/>
            <a:ext cx="1243080" cy="1924200"/>
          </a:xfrm>
          <a:prstGeom prst="rect">
            <a:avLst/>
          </a:prstGeom>
          <a:gradFill rotWithShape="0">
            <a:gsLst>
              <a:gs pos="0">
                <a:srgbClr val="0293e0"/>
              </a:gs>
              <a:gs pos="100000">
                <a:srgbClr val="d6f0ff"/>
              </a:gs>
            </a:gsLst>
            <a:lin ang="16200000"/>
          </a:gra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тац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это межбюджетные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ферт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оставляемые на безвозмездной и безвозвратной основе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5" name="Прямоугольник 9"/>
          <p:cNvSpPr/>
          <p:nvPr/>
        </p:nvSpPr>
        <p:spPr>
          <a:xfrm>
            <a:off x="4111560" y="4454640"/>
            <a:ext cx="2103480" cy="2214360"/>
          </a:xfrm>
          <a:prstGeom prst="rect">
            <a:avLst/>
          </a:prstGeom>
          <a:gradFill rotWithShape="0">
            <a:gsLst>
              <a:gs pos="0">
                <a:srgbClr val="0293e0"/>
              </a:gs>
              <a:gs pos="100000">
                <a:srgbClr val="d6f0ff"/>
              </a:gs>
            </a:gsLst>
            <a:lin ang="16200000"/>
          </a:gra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сид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это межбюджетные трансферты, предоставляемые бюджетам муниципальных образований в целях софинансирования расходных обязательств, возникающих при выполнении полномочий органов местного самоуправления по вопросам местного значения.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6" name="Прямоугольник 10"/>
          <p:cNvSpPr/>
          <p:nvPr/>
        </p:nvSpPr>
        <p:spPr>
          <a:xfrm>
            <a:off x="1459080" y="4094280"/>
            <a:ext cx="2595240" cy="2579400"/>
          </a:xfrm>
          <a:prstGeom prst="rect">
            <a:avLst/>
          </a:prstGeom>
          <a:gradFill rotWithShape="0">
            <a:gsLst>
              <a:gs pos="0">
                <a:srgbClr val="0293e0"/>
              </a:gs>
              <a:gs pos="100000">
                <a:srgbClr val="d6f0ff"/>
              </a:gs>
            </a:gsLst>
            <a:lin ang="16200000"/>
          </a:gra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венц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ежбюджетные трансферты, предоставляемые местным бюджетам в целях финансового обеспечения расходных обязательств муниципальных образований, возникающих при выполнении государственных полномочий Российской Федерации, субъектов Российской Федерации, переданных для осуществления органам местного самоуправления в установленном порядке.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7" name="Прямоугольник 11"/>
          <p:cNvSpPr/>
          <p:nvPr/>
        </p:nvSpPr>
        <p:spPr>
          <a:xfrm>
            <a:off x="6251400" y="3943440"/>
            <a:ext cx="2173320" cy="709560"/>
          </a:xfrm>
          <a:prstGeom prst="rect">
            <a:avLst/>
          </a:prstGeom>
          <a:gradFill rotWithShape="0">
            <a:gsLst>
              <a:gs pos="0">
                <a:srgbClr val="0293e0"/>
              </a:gs>
              <a:gs pos="100000">
                <a:srgbClr val="d6f0ff"/>
              </a:gs>
            </a:gsLst>
            <a:lin ang="16200000"/>
          </a:gra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е межбюджетные трансферты 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cxnSp>
        <p:nvCxnSpPr>
          <p:cNvPr id="388" name="Прямая со стрелкой 6"/>
          <p:cNvCxnSpPr/>
          <p:nvPr/>
        </p:nvCxnSpPr>
        <p:spPr>
          <a:xfrm flipH="1">
            <a:off x="2987280" y="2233080"/>
            <a:ext cx="248400" cy="31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9" name="Прямая со стрелкой 13"/>
          <p:cNvCxnSpPr/>
          <p:nvPr/>
        </p:nvCxnSpPr>
        <p:spPr>
          <a:xfrm>
            <a:off x="5880240" y="1413000"/>
            <a:ext cx="853200" cy="30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0" name="Прямая со стрелкой 15"/>
          <p:cNvCxnSpPr/>
          <p:nvPr/>
        </p:nvCxnSpPr>
        <p:spPr>
          <a:xfrm flipH="1">
            <a:off x="571320" y="3142800"/>
            <a:ext cx="543600" cy="77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1" name="Прямая со стрелкой 17"/>
          <p:cNvCxnSpPr/>
          <p:nvPr/>
        </p:nvCxnSpPr>
        <p:spPr>
          <a:xfrm>
            <a:off x="3857760" y="2857680"/>
            <a:ext cx="271512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2" name="Прямая со стрелкой 19"/>
          <p:cNvCxnSpPr/>
          <p:nvPr/>
        </p:nvCxnSpPr>
        <p:spPr>
          <a:xfrm>
            <a:off x="3790800" y="3715920"/>
            <a:ext cx="464400" cy="73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3" name="Прямая со стрелкой 21"/>
          <p:cNvCxnSpPr>
            <a:stCxn id="382" idx="2"/>
            <a:endCxn id="386" idx="0"/>
          </p:cNvCxnSpPr>
          <p:nvPr/>
        </p:nvCxnSpPr>
        <p:spPr>
          <a:xfrm>
            <a:off x="2523600" y="3740040"/>
            <a:ext cx="234360" cy="354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Безвозмездные поступления бюджета Вятскополянского муниципального района на 2018 год</a:t>
            </a: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5" name="Номер слайда 8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1FA4-F9E5-4BD2-B20F-9AE657568387}" type="slidenum">
              <a:rPr b="0" lang="ru-RU" sz="1000" spc="-1" strike="noStrike">
                <a:solidFill>
                  <a:srgbClr val="31b6fd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graphicFrame>
        <p:nvGraphicFramePr>
          <p:cNvPr id="396" name="Диаграмма 6"/>
          <p:cNvGraphicFramePr/>
          <p:nvPr/>
        </p:nvGraphicFramePr>
        <p:xfrm>
          <a:off x="395280" y="2154240"/>
          <a:ext cx="8310600" cy="429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7" name="Диаграмма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154240"/>
                    <a:ext cx="8310600" cy="42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3059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Динамика безвозмездных поступлений бюджета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ятскополянского муниципального района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а 2018 год и плановый период 2019 и 2020 годов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9" name="Номер слайда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3D6E-6758-4666-9139-84314D2E3597}" type="slidenum">
              <a:rPr b="0" lang="ru-RU" sz="1000" spc="-1" strike="noStrike">
                <a:solidFill>
                  <a:srgbClr val="31b6fd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250920" y="1432080"/>
          <a:ext cx="8713800" cy="4663800"/>
        </p:xfrm>
        <a:graphic>
          <a:graphicData uri="http://schemas.openxmlformats.org/drawingml/2006/table">
            <a:tbl>
              <a:tblPr/>
              <a:tblGrid>
                <a:gridCol w="1225440"/>
                <a:gridCol w="934920"/>
                <a:gridCol w="936720"/>
                <a:gridCol w="1008000"/>
                <a:gridCol w="995400"/>
                <a:gridCol w="1165320"/>
                <a:gridCol w="1224000"/>
                <a:gridCol w="1224000"/>
              </a:tblGrid>
              <a:tr h="143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3d3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ый план на 2017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3d3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даемое исполнение за 2017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3d3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ные поступления на 2018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3d3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лонение прогнозных поступлений на 2018 год к первоначальному плану на 2017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3d3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лонение прогнозных поступлений на 2018 год к ожидаемому исполнению за 2017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3d3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ные поступления на 2019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3d3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ные поступления на 2020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3d3fe"/>
                    </a:solidFill>
                  </a:tcPr>
                </a:tc>
              </a:tr>
              <a:tr h="59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безвозмездных поступле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860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704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670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10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033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880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83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52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т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59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59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11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1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1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71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80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498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сид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46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40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33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6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907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84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92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вен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66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729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96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0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33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94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780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59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ые межбюджетные  трансфер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6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5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58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8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59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5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5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59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безвозмездные поступл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</a:tbl>
          </a:graphicData>
        </a:graphic>
      </p:graphicFrame>
      <p:sp>
        <p:nvSpPr>
          <p:cNvPr id="401" name="Прямоугольник 5"/>
          <p:cNvSpPr/>
          <p:nvPr/>
        </p:nvSpPr>
        <p:spPr>
          <a:xfrm>
            <a:off x="7500960" y="112536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с.рублей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95280" y="1267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Безвозмездные поступления бюджета Вятскополянского муниципального района на 2018 год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52D5-680A-4601-ACB8-E88983B782B8}" type="slidenum">
              <a:rPr b="0" lang="ru-RU" sz="1000" spc="-1" strike="noStrike">
                <a:solidFill>
                  <a:srgbClr val="31b6fd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4" name="Прямоугольник 6"/>
          <p:cNvSpPr/>
          <p:nvPr/>
        </p:nvSpPr>
        <p:spPr>
          <a:xfrm>
            <a:off x="6948360" y="619200"/>
            <a:ext cx="195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с.рублей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405" name="Объект 3" descr=""/>
          <p:cNvPicPr/>
          <p:nvPr/>
        </p:nvPicPr>
        <p:blipFill>
          <a:blip r:embed="rId1"/>
          <a:stretch/>
        </p:blipFill>
        <p:spPr>
          <a:xfrm>
            <a:off x="395280" y="884160"/>
            <a:ext cx="851076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Номер слайда 3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FFF6-24F5-47BF-B5D8-3F12EDB58521}" type="slidenum">
              <a:rPr b="0" lang="ru-RU" sz="1000" spc="-1" strike="noStrike">
                <a:solidFill>
                  <a:srgbClr val="31b6fd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7" name="Заголовок 1"/>
          <p:cNvSpPr/>
          <p:nvPr/>
        </p:nvSpPr>
        <p:spPr>
          <a:xfrm>
            <a:off x="457200" y="-2700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Constantia"/>
              </a:rPr>
              <a:t>Безвозмездные поступления от бюджетов другого уровня в бюджет Вятскополянского муниципального района на 2018 год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8" name="Прямоугольник 5"/>
          <p:cNvSpPr/>
          <p:nvPr/>
        </p:nvSpPr>
        <p:spPr>
          <a:xfrm>
            <a:off x="6445080" y="395280"/>
            <a:ext cx="195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с.рублей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9" name="Прямоугольник 7"/>
          <p:cNvSpPr/>
          <p:nvPr/>
        </p:nvSpPr>
        <p:spPr>
          <a:xfrm>
            <a:off x="5118120" y="6515280"/>
            <a:ext cx="316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родолжение таблицы слайд 18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410" name="Объект 1" descr=""/>
          <p:cNvPicPr/>
          <p:nvPr/>
        </p:nvPicPr>
        <p:blipFill>
          <a:blip r:embed="rId1"/>
          <a:stretch/>
        </p:blipFill>
        <p:spPr>
          <a:xfrm>
            <a:off x="250920" y="654120"/>
            <a:ext cx="856908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Номер слайда 3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AA1C-CEA7-4EBB-9048-60784940B6D2}" type="slidenum">
              <a:rPr b="0" lang="ru-RU" sz="1000" spc="-1" strike="noStrike">
                <a:solidFill>
                  <a:srgbClr val="31b6fd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2" name="Прямоугольник 5"/>
          <p:cNvSpPr/>
          <p:nvPr/>
        </p:nvSpPr>
        <p:spPr>
          <a:xfrm>
            <a:off x="0" y="0"/>
            <a:ext cx="316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3" name="Прямоугольник 6"/>
          <p:cNvSpPr/>
          <p:nvPr/>
        </p:nvSpPr>
        <p:spPr>
          <a:xfrm>
            <a:off x="6588000" y="154080"/>
            <a:ext cx="195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с.рублей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414" name="Объект 1" descr=""/>
          <p:cNvPicPr/>
          <p:nvPr/>
        </p:nvPicPr>
        <p:blipFill>
          <a:blip r:embed="rId1"/>
          <a:stretch/>
        </p:blipFill>
        <p:spPr>
          <a:xfrm>
            <a:off x="324000" y="438120"/>
            <a:ext cx="835164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Номер слайда 3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3C9C-EE30-41B2-8A49-D2F7B10A6873}" type="slidenum">
              <a:rPr b="0" lang="ru-RU" sz="1000" spc="-1" strike="noStrike">
                <a:solidFill>
                  <a:srgbClr val="31b6fd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6" name="Заголовок 1"/>
          <p:cNvSpPr/>
          <p:nvPr/>
        </p:nvSpPr>
        <p:spPr>
          <a:xfrm>
            <a:off x="457200" y="-2700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7" name="Прямоугольник 6"/>
          <p:cNvSpPr/>
          <p:nvPr/>
        </p:nvSpPr>
        <p:spPr>
          <a:xfrm>
            <a:off x="6429240" y="142920"/>
            <a:ext cx="195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с.рублей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418" name="Объект 1" descr=""/>
          <p:cNvPicPr/>
          <p:nvPr/>
        </p:nvPicPr>
        <p:blipFill>
          <a:blip r:embed="rId1"/>
          <a:stretch/>
        </p:blipFill>
        <p:spPr>
          <a:xfrm>
            <a:off x="395280" y="679320"/>
            <a:ext cx="853920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50920" y="1590840"/>
            <a:ext cx="864216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. Бюджетное и налоговое законодательство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. Федеральный закон от 06.10.2003 №131-ФЗ «Об общих принципах организации местного самоуправления в РФ»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3. Закон Кировской области от 28.09.2007 №163- ЗО «О межбюджетных отношениях в Кировской области»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4. Послание Губернатора Кировской области на 2018 год и плановый период 2019 и 2020 годов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5. Основные направления бюджетной и налоговой политики муниципального образования Вятскополянский муниципальный район на 2018 год и плановый период 2019 и 2020 годов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6. Прогноз социально-экономического развития муниципального образования Вятскополянский муниципальный район на 2018 – 2020 годы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7. Предложения главных администраторов о прогнозе поступления доходов в бюджет Вятскополянского района и оценка ожидаемых поступлений по отдельным доходным источникам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8. Обоснования  потребности в финансировании главных распорядителей  бюджетных средств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ы проекта бюджета Вятскополянского района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018 год и плановый период 2019 и 2020 годов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расходной части бюджета Вятскополянского муниципального района на 2018 год и плановый период 2019 и 2020 годов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6012000" y="6041880"/>
            <a:ext cx="512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3E10-73D4-42C2-A139-0E6032B83D39}" type="slidenum">
              <a:rPr b="0" lang="ru-RU" sz="1000" spc="-1" strike="noStrike">
                <a:solidFill>
                  <a:srgbClr val="31b6fd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1" name="Скругленный прямоугольник 4"/>
          <p:cNvSpPr/>
          <p:nvPr/>
        </p:nvSpPr>
        <p:spPr>
          <a:xfrm>
            <a:off x="568440" y="934920"/>
            <a:ext cx="6769080" cy="358920"/>
          </a:xfrm>
          <a:prstGeom prst="roundRect">
            <a:avLst>
              <a:gd name="adj" fmla="val 16667"/>
            </a:avLst>
          </a:prstGeom>
          <a:solidFill>
            <a:srgbClr val="83d3fe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муниципальных программ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cxnSp>
        <p:nvCxnSpPr>
          <p:cNvPr id="422" name="Соединительная линия уступом 9"/>
          <p:cNvCxnSpPr/>
          <p:nvPr/>
        </p:nvCxnSpPr>
        <p:spPr>
          <a:xfrm flipH="1" rot="16200000">
            <a:off x="-92160" y="2719080"/>
            <a:ext cx="2858040" cy="3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3" name="Прямая со стрелкой 11"/>
          <p:cNvCxnSpPr/>
          <p:nvPr/>
        </p:nvCxnSpPr>
        <p:spPr>
          <a:xfrm>
            <a:off x="1338120" y="1628280"/>
            <a:ext cx="504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Скругленный прямоугольник 12"/>
          <p:cNvSpPr/>
          <p:nvPr/>
        </p:nvSpPr>
        <p:spPr>
          <a:xfrm>
            <a:off x="1908000" y="1370160"/>
            <a:ext cx="5400720" cy="466560"/>
          </a:xfrm>
          <a:prstGeom prst="roundRect">
            <a:avLst>
              <a:gd name="adj" fmla="val 16667"/>
            </a:avLst>
          </a:prstGeom>
          <a:solidFill>
            <a:srgbClr val="83d3fe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ая программа Вятскополянского района «Развитие образования» на 2014-2020 годы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5" name="Скругленный прямоугольник 13"/>
          <p:cNvSpPr/>
          <p:nvPr/>
        </p:nvSpPr>
        <p:spPr>
          <a:xfrm>
            <a:off x="1908000" y="1901880"/>
            <a:ext cx="5396040" cy="423720"/>
          </a:xfrm>
          <a:prstGeom prst="roundRect">
            <a:avLst>
              <a:gd name="adj" fmla="val 16667"/>
            </a:avLst>
          </a:prstGeom>
          <a:solidFill>
            <a:srgbClr val="83d3fe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ая программа «Управление муниципальными финансами и регулирование межбюджетных отношений» на 2014-2020 годы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cxnSp>
        <p:nvCxnSpPr>
          <p:cNvPr id="426" name="Прямая со стрелкой 14"/>
          <p:cNvCxnSpPr/>
          <p:nvPr/>
        </p:nvCxnSpPr>
        <p:spPr>
          <a:xfrm>
            <a:off x="1338120" y="2133360"/>
            <a:ext cx="504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7" name="Скругленный прямоугольник 18"/>
          <p:cNvSpPr/>
          <p:nvPr/>
        </p:nvSpPr>
        <p:spPr>
          <a:xfrm>
            <a:off x="1916280" y="2398680"/>
            <a:ext cx="5387760" cy="442800"/>
          </a:xfrm>
          <a:prstGeom prst="roundRect">
            <a:avLst>
              <a:gd name="adj" fmla="val 16667"/>
            </a:avLst>
          </a:prstGeom>
          <a:solidFill>
            <a:srgbClr val="83d3fe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8" name="Скругленный прямоугольник 19"/>
          <p:cNvSpPr/>
          <p:nvPr/>
        </p:nvSpPr>
        <p:spPr>
          <a:xfrm>
            <a:off x="1943280" y="2940120"/>
            <a:ext cx="5360760" cy="419040"/>
          </a:xfrm>
          <a:prstGeom prst="roundRect">
            <a:avLst>
              <a:gd name="adj" fmla="val 16667"/>
            </a:avLst>
          </a:prstGeom>
          <a:solidFill>
            <a:srgbClr val="83d3fe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cxnSp>
        <p:nvCxnSpPr>
          <p:cNvPr id="429" name="Прямая со стрелкой 22"/>
          <p:cNvCxnSpPr/>
          <p:nvPr/>
        </p:nvCxnSpPr>
        <p:spPr>
          <a:xfrm>
            <a:off x="1338120" y="2636640"/>
            <a:ext cx="504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Прямая со стрелкой 23"/>
          <p:cNvCxnSpPr/>
          <p:nvPr/>
        </p:nvCxnSpPr>
        <p:spPr>
          <a:xfrm>
            <a:off x="1338120" y="3141360"/>
            <a:ext cx="504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Прямая со стрелкой 24"/>
          <p:cNvCxnSpPr/>
          <p:nvPr/>
        </p:nvCxnSpPr>
        <p:spPr>
          <a:xfrm>
            <a:off x="2268360" y="3717720"/>
            <a:ext cx="504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2" name="Прямая соединительная линия 30"/>
          <p:cNvSpPr/>
          <p:nvPr/>
        </p:nvSpPr>
        <p:spPr>
          <a:xfrm>
            <a:off x="2257560" y="335448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3" name="Скругленный прямоугольник 32"/>
          <p:cNvSpPr/>
          <p:nvPr/>
        </p:nvSpPr>
        <p:spPr>
          <a:xfrm>
            <a:off x="1925640" y="4010040"/>
            <a:ext cx="5378400" cy="352440"/>
          </a:xfrm>
          <a:prstGeom prst="roundRect">
            <a:avLst>
              <a:gd name="adj" fmla="val 16667"/>
            </a:avLst>
          </a:prstGeom>
          <a:solidFill>
            <a:srgbClr val="83d3fe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ая программа Вятскополянского района «Создание условий, способствующих развитию района» на 2014-2020 годы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4" name="Прямоугольник 33"/>
          <p:cNvSpPr/>
          <p:nvPr/>
        </p:nvSpPr>
        <p:spPr>
          <a:xfrm>
            <a:off x="2811600" y="3421080"/>
            <a:ext cx="4492440" cy="546120"/>
          </a:xfrm>
          <a:prstGeom prst="rect">
            <a:avLst/>
          </a:prstGeom>
          <a:solidFill>
            <a:srgbClr val="d6f0ff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рограмма  «Устойчивое развитие сельских территорий Вятскополянского района  Кировской области»  на период до 2020 года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cxnSp>
        <p:nvCxnSpPr>
          <p:cNvPr id="435" name="Прямая со стрелкой 34"/>
          <p:cNvCxnSpPr/>
          <p:nvPr/>
        </p:nvCxnSpPr>
        <p:spPr>
          <a:xfrm>
            <a:off x="1338120" y="4149360"/>
            <a:ext cx="504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TextBox 38"/>
          <p:cNvSpPr/>
          <p:nvPr/>
        </p:nvSpPr>
        <p:spPr>
          <a:xfrm>
            <a:off x="1932120" y="2397240"/>
            <a:ext cx="5249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ая программа «Управление муниципальным 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ществом» на 2014-2020 годы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7" name="TextBox 39"/>
          <p:cNvSpPr/>
          <p:nvPr/>
        </p:nvSpPr>
        <p:spPr>
          <a:xfrm>
            <a:off x="1925640" y="2927520"/>
            <a:ext cx="523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ая программа Вятскополянского района «Развитие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опромышленного комплекса» на 2014-2020 годы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8" name="Прямая соединительная линия 40"/>
          <p:cNvSpPr/>
          <p:nvPr/>
        </p:nvSpPr>
        <p:spPr>
          <a:xfrm flipH="1">
            <a:off x="2257560" y="4362480"/>
            <a:ext cx="10800" cy="167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cxnSp>
        <p:nvCxnSpPr>
          <p:cNvPr id="439" name="Прямая со стрелкой 41"/>
          <p:cNvCxnSpPr/>
          <p:nvPr/>
        </p:nvCxnSpPr>
        <p:spPr>
          <a:xfrm>
            <a:off x="2268360" y="4723920"/>
            <a:ext cx="504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Прямоугольник 43"/>
          <p:cNvSpPr/>
          <p:nvPr/>
        </p:nvSpPr>
        <p:spPr>
          <a:xfrm>
            <a:off x="2811600" y="4451400"/>
            <a:ext cx="4492440" cy="434880"/>
          </a:xfrm>
          <a:prstGeom prst="rect">
            <a:avLst/>
          </a:prstGeom>
          <a:solidFill>
            <a:srgbClr val="d6f0ff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рограмма «Развитие экономического потенциала» на 2014-2020 годы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1" name="Прямоугольник 44"/>
          <p:cNvSpPr/>
          <p:nvPr/>
        </p:nvSpPr>
        <p:spPr>
          <a:xfrm>
            <a:off x="2819520" y="5276880"/>
            <a:ext cx="4492440" cy="546120"/>
          </a:xfrm>
          <a:prstGeom prst="rect">
            <a:avLst/>
          </a:prstGeom>
          <a:solidFill>
            <a:srgbClr val="d6f0ff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рограмма «Обеспечение безопасности жизнедеятельности населения»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2" name="Прямоугольник 45"/>
          <p:cNvSpPr/>
          <p:nvPr/>
        </p:nvSpPr>
        <p:spPr>
          <a:xfrm>
            <a:off x="2801880" y="5919840"/>
            <a:ext cx="4502160" cy="390600"/>
          </a:xfrm>
          <a:prstGeom prst="rect">
            <a:avLst/>
          </a:prstGeom>
          <a:solidFill>
            <a:srgbClr val="d6f0ff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рограмма «Энергосбережение и повышение энергетической эффективности Вятскополянского района»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3" name="Прямоугольник 46"/>
          <p:cNvSpPr/>
          <p:nvPr/>
        </p:nvSpPr>
        <p:spPr>
          <a:xfrm>
            <a:off x="2811600" y="4943520"/>
            <a:ext cx="4492440" cy="279360"/>
          </a:xfrm>
          <a:prstGeom prst="rect">
            <a:avLst/>
          </a:prstGeom>
          <a:solidFill>
            <a:srgbClr val="d6f0ff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рограмма «Развитие социальной политики»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cxnSp>
        <p:nvCxnSpPr>
          <p:cNvPr id="444" name="Прямая со стрелкой 50"/>
          <p:cNvCxnSpPr/>
          <p:nvPr/>
        </p:nvCxnSpPr>
        <p:spPr>
          <a:xfrm>
            <a:off x="2268360" y="5082840"/>
            <a:ext cx="504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5" name="Прямая со стрелкой 51"/>
          <p:cNvCxnSpPr/>
          <p:nvPr/>
        </p:nvCxnSpPr>
        <p:spPr>
          <a:xfrm>
            <a:off x="2268360" y="5551200"/>
            <a:ext cx="504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Прямая со стрелкой 52"/>
          <p:cNvCxnSpPr/>
          <p:nvPr/>
        </p:nvCxnSpPr>
        <p:spPr>
          <a:xfrm>
            <a:off x="2268360" y="6028920"/>
            <a:ext cx="504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бъем расходов бюджета Вятскополянского района в рамках программ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8" name="Номер слайда 8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C324-3A49-4CFC-8230-876412F68392}" type="slidenum">
              <a:rPr b="0" lang="ru-RU" sz="1000" spc="-1" strike="noStrike">
                <a:solidFill>
                  <a:srgbClr val="31b6fd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449" name="Диаграмма 9" descr=""/>
          <p:cNvPicPr/>
          <p:nvPr/>
        </p:nvPicPr>
        <p:blipFill>
          <a:blip r:embed="rId1"/>
          <a:stretch/>
        </p:blipFill>
        <p:spPr>
          <a:xfrm>
            <a:off x="390600" y="1195560"/>
            <a:ext cx="4413240" cy="5381280"/>
          </a:xfrm>
          <a:prstGeom prst="rect">
            <a:avLst/>
          </a:prstGeom>
          <a:ln w="0">
            <a:noFill/>
          </a:ln>
        </p:spPr>
      </p:pic>
      <p:sp>
        <p:nvSpPr>
          <p:cNvPr id="450" name="Прямоугольник 13"/>
          <p:cNvSpPr/>
          <p:nvPr/>
        </p:nvSpPr>
        <p:spPr>
          <a:xfrm>
            <a:off x="6465960" y="58428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тыс.рублей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graphicFrame>
        <p:nvGraphicFramePr>
          <p:cNvPr id="451" name="Диаграмма 6"/>
          <p:cNvGraphicFramePr/>
          <p:nvPr/>
        </p:nvGraphicFramePr>
        <p:xfrm>
          <a:off x="4522680" y="1146240"/>
          <a:ext cx="4016520" cy="5154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52" name="Диаграмма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22680" y="1146240"/>
                    <a:ext cx="4016520" cy="51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Динамика  расходов в разрезе отраслей бюджета Вятскополянского  муниципального района на 2017 – 2020 годы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4" name="Номер слайда 6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BF36-7A7C-4D26-B95F-09E512E08AEE}" type="slidenum">
              <a:rPr b="0" lang="ru-RU" sz="1000" spc="-1" strike="noStrike">
                <a:solidFill>
                  <a:srgbClr val="31b6fd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455" name="Объект 4" descr=""/>
          <p:cNvPicPr/>
          <p:nvPr/>
        </p:nvPicPr>
        <p:blipFill>
          <a:blip r:embed="rId1"/>
          <a:stretch/>
        </p:blipFill>
        <p:spPr>
          <a:xfrm>
            <a:off x="314280" y="1407960"/>
            <a:ext cx="8515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4000" y="-1440"/>
            <a:ext cx="90360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труктура расходов в разрезе отраслей бюджета Вятскополянского района </a:t>
            </a:r>
            <a:br>
              <a:rPr sz="2200"/>
            </a:b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а 2017 и 2018 годы</a:t>
            </a: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7" name="Номер слайда 8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DDBE-D768-4C0E-BCC7-04C209E8F12A}" type="slidenum">
              <a:rPr b="0" lang="ru-RU" sz="1000" spc="-1" strike="noStrike">
                <a:solidFill>
                  <a:srgbClr val="31b6fd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graphicFrame>
        <p:nvGraphicFramePr>
          <p:cNvPr id="458" name="Диаграмма 11"/>
          <p:cNvGraphicFramePr/>
          <p:nvPr/>
        </p:nvGraphicFramePr>
        <p:xfrm>
          <a:off x="-108000" y="863640"/>
          <a:ext cx="5618160" cy="556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9" name="Диаграмма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8000" y="863640"/>
                    <a:ext cx="5618160" cy="55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Диаграмма 5"/>
          <p:cNvGraphicFramePr/>
          <p:nvPr/>
        </p:nvGraphicFramePr>
        <p:xfrm>
          <a:off x="4546440" y="930240"/>
          <a:ext cx="4357800" cy="5553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61" name="Диаграмма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930240"/>
                    <a:ext cx="4357800" cy="55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Дефицит муниципального образования Вятскополянский муниципальный район на 2018 год и плановый период 2019 и 2020 годов</a:t>
            </a: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69800" y="102060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асходы бюджета района не обеспечиваются плановыми доходами, в результате дефицит бюджета муниципального образования Вятскополянский муниципальный район планируется :    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                                                                                                     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D879-14B1-47F5-9976-1EC287A068E0}" type="slidenum">
              <a:rPr b="0" lang="ru-RU" sz="1000" spc="-1" strike="noStrike">
                <a:solidFill>
                  <a:srgbClr val="31b6fd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65" name="Прямоугольник 6"/>
          <p:cNvSpPr/>
          <p:nvPr/>
        </p:nvSpPr>
        <p:spPr>
          <a:xfrm>
            <a:off x="6156360" y="204156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graphicFrame>
        <p:nvGraphicFramePr>
          <p:cNvPr id="466" name="Диаграмма 6"/>
          <p:cNvGraphicFramePr/>
          <p:nvPr/>
        </p:nvGraphicFramePr>
        <p:xfrm>
          <a:off x="1568520" y="2505240"/>
          <a:ext cx="586260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7" name="Диаграмма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8520" y="2505240"/>
                    <a:ext cx="586260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Номер слайда 3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E3CD-A1AD-4324-971A-6214DA5B1B62}" type="slidenum">
              <a:rPr b="0" lang="ru-RU" sz="1000" spc="-1" strike="noStrike">
                <a:solidFill>
                  <a:srgbClr val="31b6fd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971640" y="620640"/>
            <a:ext cx="761832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Candara"/>
              </a:rPr>
              <a:t>    </a:t>
            </a:r>
            <a:r>
              <a:rPr b="1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точники покрытия дефицита бюджета Вятскополянского района на 2018 год и плановый период 2019 и 2020 годов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) Кредиты от кредитных организаций в валюте  Российской Федерации: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018 год – 14600, тыс. рублей;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019 год – 14600,0 тыс.рублей;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020 год – 29600,0 тыс.рублей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) Остатки средств на счетах по учету средств бюджета: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018 год – 500,0 тыс. рублей;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019 год – 500,0 тыс.рублей;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020 год – 500,0 тыс.рублей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) 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гашение</a:t>
            </a: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долговых обязательств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018 год – 7600,0 тыс. рублей, в том числе бюджетный кредит 1600,0 тыс. рублей;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019 год – 14600,0 тыс.рублей;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020 год – 29600,0 тыс.рублей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04040"/>
                </a:solidFill>
                <a:latin typeface="Candara"/>
              </a:rPr>
              <a:t>         </a:t>
            </a:r>
            <a:endParaRPr b="0" lang="en-US" sz="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Спасибо за внимание!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1" name="Номер слайда 3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B179-156B-4F53-AFDA-208972EFEDDF}" type="slidenum">
              <a:rPr b="0" lang="ru-RU" sz="1000" spc="-1" strike="noStrike">
                <a:solidFill>
                  <a:srgbClr val="31b6fd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1"/>
          <p:cNvSpPr/>
          <p:nvPr/>
        </p:nvSpPr>
        <p:spPr>
          <a:xfrm>
            <a:off x="324000" y="90792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, условия и подходы формирования проекта бюджета Вятскополянского района на 2018 год 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овый период 2019 и 2020 годов: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7" name="Прямоугольник 2"/>
          <p:cNvSpPr/>
          <p:nvPr/>
        </p:nvSpPr>
        <p:spPr>
          <a:xfrm>
            <a:off x="324000" y="1779480"/>
            <a:ext cx="4968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правления бюджетной и налоговой политики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 сохранение уровня заработной платы, достигнутого при реализации Указов Президента РФ от 07.05.2012г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 соблюдение принципа формирования расходов на основе муниципальных программ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. соблюдение ограничений по отдельным направлениям расходов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. финансовое обеспечение в необходимом объеме расходов на заработную плату и коммунальные услуги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. сохранение на безопасном уровне объема муниципального долга и расходов на его обслуживание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6. укрепление и развитие налогового потенциала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8" name="Прямоугольник 3"/>
          <p:cNvSpPr/>
          <p:nvPr/>
        </p:nvSpPr>
        <p:spPr>
          <a:xfrm>
            <a:off x="5219640" y="2219400"/>
            <a:ext cx="3529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гноз социально – экономического развития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 условий базового варианта социально-экономического прогноза, который предполагает умеренное развитие экономики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Прямоугольник 1"/>
          <p:cNvSpPr/>
          <p:nvPr/>
        </p:nvSpPr>
        <p:spPr>
          <a:xfrm>
            <a:off x="250920" y="90792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сновные параметры бюджета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ятскополянского  муниципального района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а 2018 год и плановый период 2019 и 2020 годов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0" name="Прямоугольник 2"/>
          <p:cNvSpPr/>
          <p:nvPr/>
        </p:nvSpPr>
        <p:spPr>
          <a:xfrm>
            <a:off x="2286000" y="26906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сновные параметры бюджета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ятскополянского  муниципального района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а 2018 год и плановый период 2019 и 2020 годов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755640" y="2060640"/>
          <a:ext cx="7632720" cy="4562280"/>
        </p:xfrm>
        <a:graphic>
          <a:graphicData uri="http://schemas.openxmlformats.org/drawingml/2006/table">
            <a:tbl>
              <a:tblPr/>
              <a:tblGrid>
                <a:gridCol w="2716200"/>
                <a:gridCol w="1760400"/>
                <a:gridCol w="1614600"/>
                <a:gridCol w="1541520"/>
              </a:tblGrid>
              <a:tr h="10674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293e0"/>
                        </a:gs>
                        <a:gs pos="100000">
                          <a:srgbClr val="d6f0ff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18 год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293e0"/>
                        </a:gs>
                        <a:gs pos="100000">
                          <a:srgbClr val="d6f0ff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19 год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руб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293e0"/>
                        </a:gs>
                        <a:gs pos="100000">
                          <a:srgbClr val="d6f0ff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20 год, тыс.руб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293e0"/>
                        </a:gs>
                        <a:gs pos="100000">
                          <a:srgbClr val="d6f0ff"/>
                        </a:gs>
                      </a:gsLst>
                      <a:lin ang="16200000"/>
                    </a:gradFill>
                  </a:tcPr>
                </a:tc>
              </a:tr>
              <a:tr h="714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– всего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6 38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9 87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3 51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981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логовые дох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 797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 96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 60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588960">
                <a:tc>
                  <a:txBody>
                    <a:bodyPr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еналоговые дох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 97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11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07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587520">
                <a:tc>
                  <a:txBody>
                    <a:bodyPr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6 60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8 80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 83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625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– всег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3 88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0 37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4 01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580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5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ndara"/>
              </a:rPr>
              <a:t>Динамика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объема</a:t>
            </a:r>
            <a:r>
              <a:rPr b="1" lang="ru-RU" sz="2500" spc="-1" strike="noStrike">
                <a:solidFill>
                  <a:srgbClr val="000000"/>
                </a:solidFill>
                <a:latin typeface="Candara"/>
              </a:rPr>
              <a:t> доходов, расходов и дефицита бюджета Вятскополянского муниципального района за 2017-2020 годы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тыс. рублей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53" name="Диаграмма 2"/>
          <p:cNvGraphicFramePr/>
          <p:nvPr/>
        </p:nvGraphicFramePr>
        <p:xfrm>
          <a:off x="272880" y="1577880"/>
          <a:ext cx="8742600" cy="478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4" name="Диаграмма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880" y="1577880"/>
                    <a:ext cx="87426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Доходная часть бюджета Вятскополянского муниципального района на 2018 год и плановый период 2019 и 2020 годов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6" name="Скругленный прямоугольник 2"/>
          <p:cNvSpPr/>
          <p:nvPr/>
        </p:nvSpPr>
        <p:spPr>
          <a:xfrm>
            <a:off x="2340000" y="2492280"/>
            <a:ext cx="4280040" cy="1900440"/>
          </a:xfrm>
          <a:prstGeom prst="roundRect">
            <a:avLst>
              <a:gd name="adj" fmla="val 22412"/>
            </a:avLst>
          </a:prstGeom>
          <a:gradFill rotWithShape="0">
            <a:gsLst>
              <a:gs pos="0">
                <a:srgbClr val="0293e0"/>
              </a:gs>
              <a:gs pos="100000">
                <a:srgbClr val="d6f0ff"/>
              </a:gs>
            </a:gsLst>
            <a:lin ang="16200000"/>
          </a:gra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ы бюджета –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оступающие в бюджет денежные средства за исключением средств, являющихся источниками финансирования дефицита бюджета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7" name="Скругленный прямоугольник 3"/>
          <p:cNvSpPr/>
          <p:nvPr/>
        </p:nvSpPr>
        <p:spPr>
          <a:xfrm>
            <a:off x="324000" y="5300640"/>
            <a:ext cx="2376360" cy="82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293e0"/>
              </a:gs>
              <a:gs pos="100000">
                <a:srgbClr val="d6f0ff"/>
              </a:gs>
            </a:gsLst>
            <a:lin ang="16200000"/>
          </a:gra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овые доходы (13,9%)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8" name="Скругленный прямоугольник 4"/>
          <p:cNvSpPr/>
          <p:nvPr/>
        </p:nvSpPr>
        <p:spPr>
          <a:xfrm>
            <a:off x="3290760" y="5300640"/>
            <a:ext cx="2376720" cy="8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293e0"/>
              </a:gs>
              <a:gs pos="100000">
                <a:srgbClr val="d6f0ff"/>
              </a:gs>
            </a:gsLst>
            <a:lin ang="16200000"/>
          </a:gra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алоговые доходы (7,5%)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9" name="Скругленный прямоугольник 5"/>
          <p:cNvSpPr/>
          <p:nvPr/>
        </p:nvSpPr>
        <p:spPr>
          <a:xfrm>
            <a:off x="6132600" y="5294160"/>
            <a:ext cx="2376360" cy="1159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293e0"/>
              </a:gs>
              <a:gs pos="100000">
                <a:srgbClr val="d6f0ff"/>
              </a:gs>
            </a:gsLst>
            <a:lin ang="16200000"/>
          </a:gra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возмездные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ления (78,6%)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cxnSp>
        <p:nvCxnSpPr>
          <p:cNvPr id="360" name="Прямая со стрелкой 6"/>
          <p:cNvCxnSpPr/>
          <p:nvPr/>
        </p:nvCxnSpPr>
        <p:spPr>
          <a:xfrm flipH="1">
            <a:off x="1619280" y="4640040"/>
            <a:ext cx="1271880" cy="5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Прямая со стрелкой 7"/>
          <p:cNvCxnSpPr/>
          <p:nvPr/>
        </p:nvCxnSpPr>
        <p:spPr>
          <a:xfrm>
            <a:off x="4355640" y="4579560"/>
            <a:ext cx="1080" cy="6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Прямая со стрелкой 8"/>
          <p:cNvCxnSpPr/>
          <p:nvPr/>
        </p:nvCxnSpPr>
        <p:spPr>
          <a:xfrm>
            <a:off x="6103440" y="4622760"/>
            <a:ext cx="1218600" cy="56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труктура и динамика прогнозных поступлений бюджета Вятскополянского муниципального района на 2018 год к первоначальному плану на 2017 год и ожидаемому исполнению за 2017 год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64" name="Объект 2"/>
          <p:cNvGraphicFramePr/>
          <p:nvPr/>
        </p:nvGraphicFramePr>
        <p:xfrm>
          <a:off x="272880" y="2082960"/>
          <a:ext cx="8598240" cy="41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5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880" y="2082960"/>
                    <a:ext cx="859824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труктура прогнозных поступлений налоговых доходов на 2018 год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7" name="Диаграмма 3" descr=""/>
          <p:cNvPicPr/>
          <p:nvPr/>
        </p:nvPicPr>
        <p:blipFill>
          <a:blip r:embed="rId1"/>
          <a:stretch/>
        </p:blipFill>
        <p:spPr>
          <a:xfrm>
            <a:off x="249120" y="1268280"/>
            <a:ext cx="86457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Динамика прогнозных поступлений налоговых доходов</a:t>
            </a:r>
            <a:br>
              <a:rPr sz="2300"/>
            </a:br>
            <a:r>
              <a:rPr b="1" lang="ru-RU" sz="2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за 2017 – 2020 годы</a:t>
            </a:r>
            <a:endParaRPr b="0" lang="en-US" sz="23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179280" y="907920"/>
          <a:ext cx="8713800" cy="5329440"/>
        </p:xfrm>
        <a:graphic>
          <a:graphicData uri="http://schemas.openxmlformats.org/drawingml/2006/table">
            <a:tbl>
              <a:tblPr/>
              <a:tblGrid>
                <a:gridCol w="1360440"/>
                <a:gridCol w="1000440"/>
                <a:gridCol w="785520"/>
                <a:gridCol w="644760"/>
                <a:gridCol w="725400"/>
                <a:gridCol w="1028520"/>
                <a:gridCol w="1151280"/>
                <a:gridCol w="865080"/>
                <a:gridCol w="922320"/>
                <a:gridCol w="230040"/>
              </a:tblGrid>
              <a:tr h="1308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й дох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3d3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ные для исчисл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3d3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ый план на 2017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3d3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даемое исполнение за 2017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3d3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ные поступления на 2018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3d3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лонение прогнозных поступлений на 2018 год к первоначальному плану на 2017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3d3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лонение прогнозных поступлений на 2018 год к ожидаемому исполнению за 2017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3d3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ные поступления на 2019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3d3fe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ные поступления на 2020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3d3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34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49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79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9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92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60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1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ДФ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д оплаты тру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9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21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2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1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8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44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2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изы 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яженность автодор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4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3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7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295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УС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80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80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75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83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2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НВ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аз 65-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3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2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1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2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2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Х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ЕСХ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7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при патентной системе налогооблож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  патен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4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имущество организац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НИ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1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1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5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4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5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5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1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ая пошлина </a:t>
                      </a:r>
                      <a:r>
                        <a:rPr b="0" lang="ru-RU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8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0" name="Прямоугольник 4"/>
          <p:cNvSpPr/>
          <p:nvPr/>
        </p:nvSpPr>
        <p:spPr>
          <a:xfrm>
            <a:off x="0" y="6237360"/>
            <a:ext cx="87487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аны министерством финансов Кировской области </a:t>
            </a:r>
            <a:endParaRPr b="0" lang="en-US" sz="13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аны с учетом динамики поступлений</a:t>
            </a:r>
            <a:endParaRPr b="0" lang="en-US" sz="13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УСН, 5-ЕСХН, 5- патент, 5-НИО, приказ 65-н отчеты о налоговой базе и структуре </a:t>
            </a:r>
            <a:endParaRPr b="0" lang="en-US" sz="1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9T08:41:39Z</dcterms:created>
  <dc:creator>User</dc:creator>
  <dc:description/>
  <dc:language>en-US</dc:language>
  <cp:lastModifiedBy>User-46</cp:lastModifiedBy>
  <dcterms:modified xsi:type="dcterms:W3CDTF">2017-12-13T05:06:04Z</dcterms:modified>
  <cp:revision>34</cp:revision>
  <dc:subject/>
  <dc:title>Бюджет муниципального образования Вятскополянский муниципальный район Кировской области на 2018 год и плановый период 2019 и 2020 годов</dc:title>
</cp:coreProperties>
</file>